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A7F-E903-47CE-9912-D031B868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1A7-3931-490D-838E-D65A7DF8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F15A-F3A1-427C-B8F9-9A60F978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5CF-A5DD-4A8C-8E0D-85B2EC47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BBB-219F-442B-A160-466FC25C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29F-E906-4A8E-8C9C-05D0B01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4E9-87E1-4294-BB30-133A3850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133-72FC-4BA8-BB7C-ED736019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FBD-2BB0-41E0-AFC5-1152911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9E4-ABDE-4E99-9F85-F2E97C1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3BF-ADAF-4F81-BB23-BC690D4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AC2-4F37-4DAC-ADDC-EE30E0A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B976-06CD-4F8A-9422-40B8D4896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982080" cy="85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0:14:46Z</dcterms:created>
  <dc:creator>Donna Kertis</dc:creator>
  <dc:description/>
  <dc:language>en-US</dc:language>
  <cp:lastModifiedBy>tvsd</cp:lastModifiedBy>
  <dcterms:modified xsi:type="dcterms:W3CDTF">2009-03-09T13:21:57Z</dcterms:modified>
  <cp:revision>1</cp:revision>
  <dc:subject/>
  <dc:title>PowerPoint Presentation</dc:title>
</cp:coreProperties>
</file>